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A51-EAA7-488C-A782-97B21AED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C51-4535-4954-B5AF-EAC38681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521-B1B1-41A0-8633-082FE18D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6B2-1600-442B-BCD2-12895579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B47-184D-4434-9B41-185ADDE3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191-1172-487C-9D6E-7CB004F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A61-1078-483E-9826-EA27122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BC3-AD4F-4BF0-9201-D140162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3D4-4536-4A72-80FF-9B4D0C93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549-FC3C-4427-85F5-3C41267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25D-CA82-4BB4-BA9C-47B8E53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AAF-A937-43B7-8CAD-5F8009E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F573-6ED7-4D92-A8E4-4BA7D4F2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5879880"/>
            <a:chOff x="838080" y="87480"/>
            <a:chExt cx="8077320" cy="587988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11476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01796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990720"/>
              <a:ext cx="4278240" cy="20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11480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53560" y="87480"/>
              <a:ext cx="37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(source dat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4:26Z</dcterms:modified>
  <cp:revision>10</cp:revision>
  <dc:subject/>
  <dc:title>Slide 1</dc:title>
</cp:coreProperties>
</file>